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grifam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7-03-29T09:07:08.790000000" idx="1">
    <p:pos x="5313" y="1964"/>
    <p:text>tab in text that runs two lines for clarity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DB81-AA75-4E16-B4F6-06840D382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04EF-B40C-4A11-9F5F-EEB868007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7FBD-C892-4073-9F17-FC8E8A1E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306-8711-4D9C-830A-96DB8EEC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A00-FFDA-47F9-A480-C4A19B88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148-870B-496C-949A-B9C9EA4A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D5B-FA91-4A18-9D08-5A2684E5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8B6-96D7-4FE6-98D5-A1A9CF57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C9E-EBFC-4ECC-AD46-72A2688F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BFC-C13A-4127-ADF0-8C9C2A6B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445-4992-4D90-9BBA-C6157A95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BCF-B188-4528-BBCA-FAF76610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FE5-C2BC-472E-A57F-9AF44D07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EC0-9B9A-49A0-BA97-A52273C7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3E78-061D-4C67-B93B-47663FA05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4 Pastoral nomad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as increased in recent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s a form of intensive subsistence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d not develop until after perman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settlements were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ynonymous with transhu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most common in dry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4 Pastoral nomad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as increased in recent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s a form of intensive subsistence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d not develop until after perman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settlements were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ynonymous with transhu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Is most common in dry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5 Plantations are most commonly foun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American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nd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5 Plantations are most commonly foun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American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nd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6 Compared to other grains, w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f less economic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more uses for huma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be stored a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ows less well in humid continental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grown primarily for domestic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6 Compared to other grains, w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f less economic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Has more uses than solely huma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be stored a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ows less well in humid continental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grown primarily for domestic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7 Ranching has declined in the western United States primarily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fectious diseases have killed off he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rowing crops is a more efficient use of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federal government provides 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es for ran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Vegetarianism has become so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lack of water limits the number of anim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7 Ranching has declined in the western United States primarily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fectious diseases have killed off he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Growing crops is a more efficient us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federal government provides 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es for ran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Vegetarianism has become so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lack of water limits the number of anim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8 The most fundamental shared aspect of regions that practice Mediterranean agricultur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love of good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willingness to experiment with new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milar climat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lose proximity to the 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peaking of Romance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8 The most fundamental shared aspect of regions that practice Mediterranean agricultur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love of good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willingness to experiment with new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Similar climat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lose proximity to the 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peaking of Romance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1 All of the following areas were primary or secondary origins of vegetative planting, exc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esopotamia/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9 According to the von Thunen model, which of the following factor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ant to a farmer when deciding which crops to g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istance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ransportation cost per kil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Yield per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rice per bush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utritional value of the c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9 According to the von Thunen model, which of the following factor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ant to a farmer when deciding which crops to g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istance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ransportation cost per kil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Yield per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rice per bush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Nutritional value of the c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0 Which of the following area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ected by des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merican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entral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entral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western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0 Which of the following area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ected by des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merican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entral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entral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western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0_14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0_01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1 All of the following areas were primary or secondary origins of vegetative planting, exc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ou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esopotamia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2 Subsistence agricultur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o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2 Subsistence agricultur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o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east A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0_03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3 Shifting cultivatio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the interior region of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ithin 20 degrees latitude of the equ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 more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humid continental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 close proximity to larg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3 Shifting cultivatio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the interior region of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Within 20 degrees latitude of the equ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 more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humid continental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 close proximity to larg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Hartman, Unity</cp:lastModifiedBy>
  <dcterms:modified xsi:type="dcterms:W3CDTF">2014-05-12T22:32:04Z</dcterms:modified>
  <cp:revision>68</cp:revision>
  <dc:subject/>
  <dc:title>CRS Chapter 4</dc:title>
</cp:coreProperties>
</file>